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44.jpeg" ContentType="image/jpeg"/>
  <Override PartName="/ppt/media/image41.jpeg" ContentType="image/jpeg"/>
  <Override PartName="/ppt/media/image45.jpeg" ContentType="image/jpeg"/>
  <Override PartName="/ppt/media/image38.png" ContentType="image/png"/>
  <Override PartName="/ppt/media/image8.png" ContentType="image/png"/>
  <Override PartName="/ppt/media/image23.png" ContentType="image/png"/>
  <Override PartName="/ppt/media/image13.jpeg" ContentType="image/jpeg"/>
  <Override PartName="/ppt/media/image46.jpeg" ContentType="image/jpeg"/>
  <Override PartName="/ppt/media/image12.png" ContentType="image/png"/>
  <Override PartName="/ppt/media/image20.jpeg" ContentType="image/jpeg"/>
  <Override PartName="/ppt/media/image48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571-071F-453E-8E28-BF214228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E014-EB1B-435D-A5AF-BEA43413A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0E26-416C-4969-988D-B7A929036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8974-31F2-4E7D-871E-97402CC82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BE4A-CED2-40C4-BE0E-9E76FB4E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A3B-5CFF-4428-BACC-8F004837A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829A-5FBC-4DF0-912F-45D7A6C77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2450-1807-4CA2-92FF-5FF380B2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AD32-364E-4F6C-A3B3-788770E00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16BD-F57D-4364-ADC1-BE655C5E4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5CD3-823D-4FCA-A292-AA3CAB0E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364A-D54C-44FD-8D8B-701F8DA85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F208-BDD6-4A8C-BD34-226D9ECA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040E-FBD9-40C9-BB98-2F7227A7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980D-B626-43F2-85FE-BC8E56FF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65B5-08A5-4E9E-A233-A38E95776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0785-9DA9-4F8F-A643-66FD29B2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6005-DE37-44EA-81EB-61D166D6B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F7A4-8625-4ADE-88D7-CE320983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67BB-4A44-43DB-8CDE-0F380970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4535-25BB-4371-871D-4E3D70EC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9EF5-6F9A-4149-A1CA-5C040DCC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629B-5CE8-4F34-B030-8439238B8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335-21F4-4C97-A708-E66DA41B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41AA-8701-4A53-BE75-6B1D6BB79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943-D1E3-4120-9A78-641B965C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7089-5A2D-4F50-925C-EB116F9C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6596-D86C-4F99-B44E-A1DC17054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C260-E20A-4CF9-B239-656D08621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426-4D19-4A70-934E-F76EEF42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BA0-B5AF-494C-A99E-E76D4FD2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DD4-4B3D-4025-A4A9-F7000083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7B0-0BC4-492F-8312-4EADCEE8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88C-11F1-40AC-9244-BAB049DC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DB8-F840-4C41-B244-443475E9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5F3-170C-42DA-8715-D435C74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E56-EA09-43C8-9D6A-57E8C9DA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A04-0FA7-47E9-81F2-8F6D7357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48C-4103-492E-AE7A-F564F9F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370-F9F9-4644-B5CE-338E37A8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350-5017-471D-884D-CAAA522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277-1942-44E0-9BE4-6B53ED4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4EE8-2308-483A-8FE1-81E5FED4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rockefeller.edu/vaf/strep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rockefeller.edu/vaf/strep.htm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Xi2Nc1UicQ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parts.mit.edu/igem07/index.php/Image:BU_conjugation.jpg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lb.ac.be/sciences/biodic/ImBacterie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ell"/>
          <p:cNvPicPr/>
          <p:nvPr/>
        </p:nvPicPr>
        <p:blipFill>
          <a:blip r:embed="rId1"/>
          <a:stretch/>
        </p:blipFill>
        <p:spPr>
          <a:xfrm>
            <a:off x="762120" y="457200"/>
            <a:ext cx="5341680" cy="6126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228960" y="60955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 rot="5400000">
            <a:off x="4190760" y="2590560"/>
            <a:ext cx="6629400" cy="19051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6600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rokaryot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80"/>
                  </a:gs>
                  <a:gs pos="100000">
                    <a:srgbClr val="6600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ording to current scientific thought, about how old are prokaryot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karyotes</a:t>
            </a:r>
            <a:br>
              <a:rPr sz="72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Greek meaning “before nucle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http://library.thinkquest.org/C004535/media/prokaryote.gif"/>
          <p:cNvPicPr/>
          <p:nvPr/>
        </p:nvPicPr>
        <p:blipFill>
          <a:blip r:embed="rId1"/>
          <a:stretch/>
        </p:blipFill>
        <p:spPr>
          <a:xfrm>
            <a:off x="2133720" y="1752480"/>
            <a:ext cx="54864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before nuclei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ic cells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nucl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is cir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t has no en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irclets of DNA are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m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is “naked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t has no histones associated with it and does NOT form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prokaryote mea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term prokaryote used to describe the cells we are talking abou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Prokaryotes are in th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ner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s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known as blue-gree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ttp://library.thinkquest.org/C004535/media/bacillus_bacteria1.gif"/>
          <p:cNvPicPr/>
          <p:nvPr/>
        </p:nvPicPr>
        <p:blipFill>
          <a:blip r:embed="rId1"/>
          <a:stretch/>
        </p:blipFill>
        <p:spPr>
          <a:xfrm>
            <a:off x="228600" y="3124080"/>
            <a:ext cx="3809880" cy="311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0_24B"/>
          <p:cNvPicPr/>
          <p:nvPr/>
        </p:nvPicPr>
        <p:blipFill>
          <a:blip r:embed="rId2"/>
          <a:stretch/>
        </p:blipFill>
        <p:spPr>
          <a:xfrm>
            <a:off x="4343400" y="3429000"/>
            <a:ext cx="447660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kingdom to do all prokaryotes belong to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karyo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mall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membrane-bound organelle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few internal struc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distinguishable under a micr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information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circular loop call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las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cell wall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nvironment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terial cells are very 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oughly the size of an animal mitochondr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-2µm in diameter and 10 µm l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µm = one millionth of a 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equivalently one thousandth of a millime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acsiz"/>
          <p:cNvPicPr/>
          <p:nvPr/>
        </p:nvPicPr>
        <p:blipFill>
          <a:blip r:embed="rId1"/>
          <a:stretch/>
        </p:blipFill>
        <p:spPr>
          <a:xfrm>
            <a:off x="2209680" y="3429000"/>
            <a:ext cx="4962600" cy="32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Form_and_Function__Bacteria_are_the_Simplest_Organisms.asf" descr=""/>
          <p:cNvPicPr/>
          <p:nvPr/>
        </p:nvPicPr>
        <p:blipFill>
          <a:blip r:embed="rId1"/>
          <a:stretch/>
        </p:blipFill>
        <p:spPr>
          <a:xfrm>
            <a:off x="1371600" y="1679400"/>
            <a:ext cx="670572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size of an average Prokaryot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notes focus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the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ck membrane-bound organelles inside the c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bacteriacell"/>
          <p:cNvPicPr/>
          <p:nvPr/>
        </p:nvPicPr>
        <p:blipFill>
          <a:blip r:embed="rId1"/>
          <a:stretch/>
        </p:blipFill>
        <p:spPr>
          <a:xfrm>
            <a:off x="1295280" y="1335240"/>
            <a:ext cx="632484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have few internal struct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at are distinguishable under a microscop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419720" y="38782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76520" cy="4038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iology - 71.125"/>
          <p:cNvPicPr/>
          <p:nvPr/>
        </p:nvPicPr>
        <p:blipFill>
          <a:blip r:embed="rId2"/>
          <a:stretch/>
        </p:blipFill>
        <p:spPr>
          <a:xfrm>
            <a:off x="3581280" y="25146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104640" y="6324480"/>
            <a:ext cx="58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science/biological_sciences/lab3/biolab3_2.html#Ex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genetic information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a circular loop call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plasm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11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coli cell dividing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Coli Grows in human intesti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ingle, circular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DNA as plasm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ids are extra-chromosoma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401l2eco"/>
          <p:cNvPicPr/>
          <p:nvPr/>
        </p:nvPicPr>
        <p:blipFill>
          <a:blip r:embed="rId1"/>
          <a:stretch/>
        </p:blipFill>
        <p:spPr>
          <a:xfrm>
            <a:off x="457200" y="1828800"/>
            <a:ext cx="387360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1054800" y="6095880"/>
            <a:ext cx="38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.mtu.edu/campbell/prokary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Strong cell walls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ant to environmental ch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401l2f4"/>
          <p:cNvPicPr/>
          <p:nvPr/>
        </p:nvPicPr>
        <p:blipFill>
          <a:blip r:embed="rId1"/>
          <a:srcRect l="16877" t="7412" r="7522" b="12591"/>
          <a:stretch/>
        </p:blipFill>
        <p:spPr>
          <a:xfrm>
            <a:off x="1752480" y="1676520"/>
            <a:ext cx="563904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scribe the 5 items used to classify a prokaryo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cci - sphe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illi - ro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rilla – spi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ph - in clust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ep - in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d 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library.thinkquest.org/C004535/media/e_coli_bacteria.gif"/>
          <p:cNvPicPr/>
          <p:nvPr/>
        </p:nvPicPr>
        <p:blipFill>
          <a:blip r:embed="rId1"/>
          <a:stretch/>
        </p:blipFill>
        <p:spPr>
          <a:xfrm>
            <a:off x="5867280" y="3581280"/>
            <a:ext cx="1828800" cy="1495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hains of nearly-spherical bacteria"/>
          <p:cNvPicPr/>
          <p:nvPr/>
        </p:nvPicPr>
        <p:blipFill>
          <a:blip r:embed="rId2"/>
          <a:stretch/>
        </p:blipFill>
        <p:spPr>
          <a:xfrm>
            <a:off x="5410080" y="5334120"/>
            <a:ext cx="1828800" cy="1166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7391520" y="5334120"/>
            <a:ext cx="15238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reptococc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. Chains of nearly-spherical bacteri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he Rockefeller Universit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This spiral shaped bacteria is the causitive agent of syphilis Treponema pallidum"/>
          <p:cNvPicPr/>
          <p:nvPr/>
        </p:nvPicPr>
        <p:blipFill>
          <a:blip r:embed="rId4"/>
          <a:stretch/>
        </p:blipFill>
        <p:spPr>
          <a:xfrm>
            <a:off x="5486400" y="1981080"/>
            <a:ext cx="1809720" cy="1297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7543800" y="1905120"/>
            <a:ext cx="1143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iral shaped bacteria is the causitive agent of syphilis Treponema pallidum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bacteriashape"/>
          <p:cNvPicPr/>
          <p:nvPr/>
        </p:nvPicPr>
        <p:blipFill>
          <a:blip r:embed="rId5"/>
          <a:stretch/>
        </p:blipFill>
        <p:spPr>
          <a:xfrm>
            <a:off x="609480" y="3886200"/>
            <a:ext cx="358164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ins of nearly-spherical bacteria"/>
          <p:cNvPicPr/>
          <p:nvPr/>
        </p:nvPicPr>
        <p:blipFill>
          <a:blip r:embed="rId1"/>
          <a:stretch/>
        </p:blipFill>
        <p:spPr>
          <a:xfrm>
            <a:off x="685800" y="2590920"/>
            <a:ext cx="3733920" cy="2382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09480" y="502920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ptococ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 of nearly-spherical bacteri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Rockefeller Universit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1828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Means </a:t>
            </a: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Sphere-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sha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914400" y="304920"/>
            <a:ext cx="7315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cci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7" descr="roc1"/>
          <p:cNvPicPr/>
          <p:nvPr/>
        </p:nvPicPr>
        <p:blipFill>
          <a:blip r:embed="rId3"/>
          <a:stretch/>
        </p:blipFill>
        <p:spPr>
          <a:xfrm>
            <a:off x="5410080" y="2666880"/>
            <a:ext cx="275292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5335560" y="586656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eptococcus pyoge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This spiral shaped bacteria is the causitive agent of syphilis Treponema pallidum"/>
          <p:cNvPicPr/>
          <p:nvPr/>
        </p:nvPicPr>
        <p:blipFill>
          <a:blip r:embed="rId1"/>
          <a:stretch/>
        </p:blipFill>
        <p:spPr>
          <a:xfrm>
            <a:off x="2590920" y="2514600"/>
            <a:ext cx="4190760" cy="3006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533520" y="5943600"/>
            <a:ext cx="815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iral shaped bacteria is the causitive agent of syphilis Treponema pallidum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457200" y="304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irill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066680" y="1828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Means </a:t>
            </a: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Spiral-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sha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library.thinkquest.org/C004535/media/e_coli_bacteria.gif"/>
          <p:cNvPicPr/>
          <p:nvPr/>
        </p:nvPicPr>
        <p:blipFill>
          <a:blip r:embed="rId1"/>
          <a:stretch/>
        </p:blipFill>
        <p:spPr>
          <a:xfrm>
            <a:off x="2514600" y="2438280"/>
            <a:ext cx="4343400" cy="3551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795840" y="3108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acilli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167652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6600"/>
                </a:solidFill>
                <a:latin typeface="Times New Roman"/>
              </a:rPr>
              <a:t>Means </a:t>
            </a:r>
            <a:r>
              <a:rPr b="1" i="1" lang="en-US" sz="3800" spc="-1" strike="noStrike">
                <a:solidFill>
                  <a:srgbClr val="9933ff"/>
                </a:solidFill>
                <a:latin typeface="Times New Roman"/>
              </a:rPr>
              <a:t>Rod-</a:t>
            </a:r>
            <a:r>
              <a:rPr b="1" i="1" lang="en-US" sz="3800" spc="-1" strike="noStrike">
                <a:solidFill>
                  <a:srgbClr val="ff6600"/>
                </a:solidFill>
                <a:latin typeface="Times New Roman"/>
              </a:rPr>
              <a:t>shap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short rods - (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occobacilli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commas - (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vibrii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533520" y="4572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termediate Shap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7" name="Picture 5" descr="g-rod3"/>
          <p:cNvPicPr/>
          <p:nvPr/>
        </p:nvPicPr>
        <p:blipFill>
          <a:blip r:embed="rId1"/>
          <a:stretch/>
        </p:blipFill>
        <p:spPr>
          <a:xfrm>
            <a:off x="1905120" y="2666880"/>
            <a:ext cx="4495680" cy="1468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-rodc~1"/>
          <p:cNvPicPr/>
          <p:nvPr/>
        </p:nvPicPr>
        <p:blipFill>
          <a:blip r:embed="rId2"/>
          <a:stretch/>
        </p:blipFill>
        <p:spPr>
          <a:xfrm>
            <a:off x="1600200" y="4800600"/>
            <a:ext cx="495288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iving things are made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can only come from other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functions of a living thing are carried out in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inder:  the functions of living things are: respiration, metabolism, growth, adaptations to the environment, reproduction, homeostasis and inter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ff"/>
                </a:solidFill>
                <a:latin typeface="Arial"/>
              </a:rPr>
              <a:t>squares </a:t>
            </a:r>
            <a:br>
              <a:rPr sz="6000"/>
            </a:br>
            <a:r>
              <a:rPr b="0" lang="en-US" sz="6000" spc="-1" strike="noStrike">
                <a:solidFill>
                  <a:srgbClr val="9933ff"/>
                </a:solidFill>
                <a:latin typeface="Arial"/>
              </a:rPr>
              <a:t>stars </a:t>
            </a:r>
            <a:br>
              <a:rPr sz="6000"/>
            </a:br>
            <a:r>
              <a:rPr b="0" lang="en-US" sz="6000" spc="-1" strike="noStrike">
                <a:solidFill>
                  <a:srgbClr val="9933ff"/>
                </a:solidFill>
                <a:latin typeface="Arial"/>
              </a:rPr>
              <a:t>irregular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609480" y="304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are shap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Cocci can divide to f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chains (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reptococci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groups of 4 (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etrads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irregular clusters (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aphylococci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occus"/>
          <p:cNvPicPr/>
          <p:nvPr/>
        </p:nvPicPr>
        <p:blipFill>
          <a:blip r:embed="rId1"/>
          <a:stretch/>
        </p:blipFill>
        <p:spPr>
          <a:xfrm>
            <a:off x="5181480" y="1828800"/>
            <a:ext cx="3713400" cy="37339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oups or cluster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lif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img005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oups or cluster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Bacilli can divide to form chains (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treptobacilli</a:t>
            </a: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spiral bacteria normally remain as separate individua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image084"/>
          <p:cNvPicPr/>
          <p:nvPr/>
        </p:nvPicPr>
        <p:blipFill>
          <a:blip r:embed="rId1"/>
          <a:stretch/>
        </p:blipFill>
        <p:spPr>
          <a:xfrm>
            <a:off x="2286000" y="4572000"/>
            <a:ext cx="502920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review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img003"/>
          <p:cNvPicPr/>
          <p:nvPr/>
        </p:nvPicPr>
        <p:blipFill>
          <a:blip r:embed="rId1"/>
          <a:stretch/>
        </p:blipFill>
        <p:spPr>
          <a:xfrm>
            <a:off x="0" y="1752480"/>
            <a:ext cx="5638680" cy="422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BACTERIA"/>
          <p:cNvPicPr/>
          <p:nvPr/>
        </p:nvPicPr>
        <p:blipFill>
          <a:blip r:embed="rId2"/>
          <a:stretch/>
        </p:blipFill>
        <p:spPr>
          <a:xfrm>
            <a:off x="5486400" y="304920"/>
            <a:ext cx="3192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Or, how bacteria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3"/>
          <p:cNvSpPr txBox="1"/>
          <p:nvPr/>
        </p:nvSpPr>
        <p:spPr>
          <a:xfrm>
            <a:off x="838080" y="685800"/>
            <a:ext cx="7696440" cy="30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terial motilit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ome bacteria can be identified by how they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tationary (don’t move at 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Flagella  (whip like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Rotation and tum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Number of flag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Monotrich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Lophotrich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mphitrich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Peritrich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Spir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lime and oo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verview of inf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ich means, some bacteria simply do not move - - at all,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457200" y="4572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main stationar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lagell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ome bacteria are propelled (moved) by a whip-like structure called 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LAG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Flagella can be rotated like tiny outboard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When flagella rotation is reversed, bacteria tumble about in one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Bacterium with flagella"/>
          <p:cNvPicPr/>
          <p:nvPr/>
        </p:nvPicPr>
        <p:blipFill>
          <a:blip r:embed="rId1"/>
          <a:stretch/>
        </p:blipFill>
        <p:spPr>
          <a:xfrm>
            <a:off x="5410080" y="1905120"/>
            <a:ext cx="2540160" cy="10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flagella"/>
          <p:cNvPicPr/>
          <p:nvPr/>
        </p:nvPicPr>
        <p:blipFill>
          <a:blip r:embed="rId2"/>
          <a:stretch/>
        </p:blipFill>
        <p:spPr>
          <a:xfrm>
            <a:off x="4648320" y="3276720"/>
            <a:ext cx="4200480" cy="24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rangements of flagell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notrichous-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Having one flagellum at only one pole or 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ophotrichous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having a tuft of flagella at one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mphitrichous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having flagella at both 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ritrichous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Having flagella uniformly distributed over the body 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mage022"/>
          <p:cNvPicPr/>
          <p:nvPr/>
        </p:nvPicPr>
        <p:blipFill>
          <a:blip r:embed="rId1"/>
          <a:stretch/>
        </p:blipFill>
        <p:spPr>
          <a:xfrm>
            <a:off x="5105520" y="1905120"/>
            <a:ext cx="37400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ate the 3 points of cell theory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 the 7 characteristics of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5105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Like a corksc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Kinking different parts of the bacteria body by hardening one side and then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ir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Picture 4" descr="Spiroplasma-kinking"/>
          <p:cNvPicPr/>
          <p:nvPr/>
        </p:nvPicPr>
        <p:blipFill>
          <a:blip r:embed="rId1"/>
          <a:stretch/>
        </p:blipFill>
        <p:spPr>
          <a:xfrm>
            <a:off x="5715000" y="1828800"/>
            <a:ext cx="2944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Other bacteria secrete a slime layer and ooze over surfaces like slu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lime layer is formed by decomposition of the cell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lime and ooz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1" name="Picture 4" descr="bacterial cell structure shown in diagram"/>
          <p:cNvPicPr/>
          <p:nvPr/>
        </p:nvPicPr>
        <p:blipFill>
          <a:blip r:embed="rId1"/>
          <a:stretch/>
        </p:blipFill>
        <p:spPr>
          <a:xfrm>
            <a:off x="3886200" y="3886200"/>
            <a:ext cx="43434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14400" y="26668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Or, how one bacteria can become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162920" cy="190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0" t="0" r="100000" b="100000"/>
            </a:path>
          </a:gradFill>
          <a:ln w="0">
            <a:noFill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14440"/>
            <a:ext cx="73152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c1d"/>
                </a:solidFill>
                <a:latin typeface="Arial"/>
              </a:rPr>
              <a:t>Click picture to watch video on Bacteri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447920"/>
            <a:ext cx="2845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fis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ell splits into two cel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pring are genetically identical to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binary_fission"/>
          <p:cNvPicPr/>
          <p:nvPr/>
        </p:nvPicPr>
        <p:blipFill>
          <a:blip r:embed="rId1"/>
          <a:stretch/>
        </p:blipFill>
        <p:spPr>
          <a:xfrm>
            <a:off x="7772400" y="3048120"/>
            <a:ext cx="919080" cy="2185920"/>
          </a:xfrm>
          <a:prstGeom prst="rect">
            <a:avLst/>
          </a:prstGeom>
          <a:ln w="0">
            <a:noFill/>
          </a:ln>
        </p:spPr>
      </p:pic>
      <p:pic>
        <p:nvPicPr>
          <p:cNvPr id="179" name="Cell_Division__Bacteria_Reproduction.asf" descr=""/>
          <p:cNvPicPr/>
          <p:nvPr/>
        </p:nvPicPr>
        <p:blipFill>
          <a:blip r:embed="rId2"/>
          <a:stretch/>
        </p:blipFill>
        <p:spPr>
          <a:xfrm>
            <a:off x="1523880" y="2584440"/>
            <a:ext cx="5943600" cy="40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terial conju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sexual reproduction where bacteria exchange genetic information before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have new genes (and new tra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BU_conjug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523880"/>
            <a:ext cx="4227480" cy="4953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457200" y="5180760"/>
            <a:ext cx="4267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. Schematic drawing of bacterial conjugation. 1- Donor cell produces pilus; 2- Pilus attaches to recipient cell, brings the two cells together; 3- The mobile plasmid is nicked and a single strand of DNA is then transferred to the recipent cell; 4- Both cells recircularize their plasmids, synthesize second strands, and reproduce pili. Both cells are now viable don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124240" y="6400800"/>
            <a:ext cx="40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parts.mit.edu/igem07/index.php/Boston_University/Conju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incorporate genes from dea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insert new genes into bacterial ce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is used in biotechnology to create bacteria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valuable products such as insu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486400" y="2209320"/>
            <a:ext cx="32004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an't move, while others have long threadlike flag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acteria doesn’t move, how does it get from person to per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20_16"/>
          <p:cNvPicPr/>
          <p:nvPr/>
        </p:nvPicPr>
        <p:blipFill>
          <a:blip r:embed="rId1"/>
          <a:stretch/>
        </p:blipFill>
        <p:spPr>
          <a:xfrm>
            <a:off x="304920" y="2286000"/>
            <a:ext cx="4572000" cy="37242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902160" y="55227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Coli flag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a Bacteria get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Autotrophs__Heterotrophs__and_Decomposers.asf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3"/>
          <p:cNvSpPr txBox="1"/>
          <p:nvPr/>
        </p:nvSpPr>
        <p:spPr>
          <a:xfrm>
            <a:off x="457200" y="838080"/>
            <a:ext cx="8229600" cy="2697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c Diversit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990720" y="3809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Or, how bacteria get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main groups of cells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karyotic and eukaryotic ce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it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are alive, all have a cell membrane, all hav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ance, structure, reproduction, and metabol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gest differences are between cells of different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life_kingdoms"/>
          <p:cNvPicPr/>
          <p:nvPr/>
        </p:nvPicPr>
        <p:blipFill>
          <a:blip r:embed="rId1"/>
          <a:stretch/>
        </p:blipFill>
        <p:spPr>
          <a:xfrm>
            <a:off x="1066680" y="3733920"/>
            <a:ext cx="731520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4 main ways bacteria ge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Chemoheterotro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Photoheterotro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Photoautotro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Chemoautotro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Energy is released through either cellular respiration or 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Oxygen demands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Obligate ae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Obligate anae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Facultative anae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verview of inf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Heterotrophs get energy by eating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hemo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Eat other organisms fo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Eat other organisms for carbon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hoto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Use sunlight fo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Eat other organisms for carbon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ter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t least 95% of life on earth is heterotrophic (including peo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taphylococcus aur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hemoheterotro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eat” same foods as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Release toxins that cause food poi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ntibiotic resistant strains cause breakout picture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fig5"/>
          <p:cNvPicPr/>
          <p:nvPr/>
        </p:nvPicPr>
        <p:blipFill>
          <a:blip r:embed="rId1"/>
          <a:stretch/>
        </p:blipFill>
        <p:spPr>
          <a:xfrm>
            <a:off x="380880" y="2590920"/>
            <a:ext cx="2314800" cy="3495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staphylococcus_aureus"/>
          <p:cNvPicPr/>
          <p:nvPr/>
        </p:nvPicPr>
        <p:blipFill>
          <a:blip r:embed="rId2"/>
          <a:stretch/>
        </p:blipFill>
        <p:spPr>
          <a:xfrm>
            <a:off x="2133720" y="1752480"/>
            <a:ext cx="2361960" cy="1866960"/>
          </a:xfrm>
          <a:prstGeom prst="rect">
            <a:avLst/>
          </a:prstGeom>
          <a:ln w="0">
            <a:noFill/>
          </a:ln>
        </p:spPr>
      </p:pic>
      <p:sp>
        <p:nvSpPr>
          <p:cNvPr id="204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ter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Arial"/>
              </a:rPr>
              <a:t>Jannaschia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arine bacteria found in coastal and open ocean surface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erobic anoxygenic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hototroph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(AAn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Gets its energy from light, not from eating other org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responsible for oceanic photosynthesis in the ocean and the ocean carbon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janna_main1"/>
          <p:cNvPicPr/>
          <p:nvPr/>
        </p:nvPicPr>
        <p:blipFill>
          <a:blip r:embed="rId1"/>
          <a:stretch/>
        </p:blipFill>
        <p:spPr>
          <a:xfrm>
            <a:off x="5638680" y="1981080"/>
            <a:ext cx="3029040" cy="24228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ter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utotrophs make their own energy from inorganic (not-living)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hotoaut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Uses sunlight (light energy) to convert CO</a:t>
            </a:r>
            <a:r>
              <a:rPr b="0" lang="en-US" sz="24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and H</a:t>
            </a:r>
            <a:r>
              <a:rPr b="0" lang="en-US" sz="24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O into Carbon compound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hemoaut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Make organic carbon molecules from CO</a:t>
            </a:r>
            <a:r>
              <a:rPr b="0" lang="en-US" sz="24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using energy from chemical reactions involving ammonia, hydrogen sulfide, nitrites or i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t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t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3ff"/>
                </a:solidFill>
                <a:latin typeface="Arial"/>
              </a:rPr>
              <a:t>Cyanobacter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lso called bluegreen 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ound in fresh water, salt water and on land near sources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hotoautotro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se sunlight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to make energy and carbon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27-11x1-Cyanobacteria"/>
          <p:cNvPicPr/>
          <p:nvPr/>
        </p:nvPicPr>
        <p:blipFill>
          <a:blip r:embed="rId1"/>
          <a:stretch/>
        </p:blipFill>
        <p:spPr>
          <a:xfrm>
            <a:off x="4114800" y="2151000"/>
            <a:ext cx="45720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totroph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hemoautotroph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get energy and carbon from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ome live near ocean vents like the one pi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ydrothermal vent photo"/>
          <p:cNvPicPr/>
          <p:nvPr/>
        </p:nvPicPr>
        <p:blipFill>
          <a:blip r:embed="rId1"/>
          <a:stretch/>
        </p:blipFill>
        <p:spPr>
          <a:xfrm>
            <a:off x="838080" y="2133720"/>
            <a:ext cx="3594240" cy="39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nce bacteria have “eaten” they need to break down their “food”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process of breaking down organic compounds into ATP (energy cells can use) is calle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ame 1</a:t>
            </a:r>
            <a:r>
              <a:rPr b="0" lang="en-US" sz="2800" spc="-1" strike="noStrike" baseline="30000">
                <a:solidFill>
                  <a:srgbClr val="9933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step to begin with, but the lack or presence of oxygen determines the 2</a:t>
            </a:r>
            <a:r>
              <a:rPr b="0" lang="en-US" sz="2800" spc="-1" strike="noStrike" baseline="30000">
                <a:solidFill>
                  <a:srgbClr val="9933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tep one – Glyco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Step two – Fermentation or Kreb Cyc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To oversimplify the 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first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calle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Doesn’t require Oxygen (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naerob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Takes place in the cytosol (fluid surrounding organelles) of a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Breaks glucose into pyruvate creating ATP and H in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O oxygen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is present after glycolysis,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rmentation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3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Lactic acid Fer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Occurs in mus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auses muscle cramps due to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Occurs in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used to make cheese and 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cetic Acid Fer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Occurs in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Forms vin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lcohol Fer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Forms ethyl alcohol and C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Used to make bread, wine and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Picture 4" descr="cheese_yogurt"/>
          <p:cNvPicPr/>
          <p:nvPr/>
        </p:nvPicPr>
        <p:blipFill>
          <a:blip r:embed="rId1"/>
          <a:stretch/>
        </p:blipFill>
        <p:spPr>
          <a:xfrm>
            <a:off x="6172200" y="3962520"/>
            <a:ext cx="240048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On your worksh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 the 2 types of ce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xygen IS present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after glycolysis, Acetyl CoA is made and the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Kreb cycle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e’ll save the chemical details of this process for another class, but, basically it produces a whole lot of ATP for the cell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OME BACTERIA REQUIRE OXYGEN, SOME 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BLIGATE AE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BLIGATE ANAE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ACULTATIVE ANAE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ellular respir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bligate aerobes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NEED oxygen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BLIGAT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eans requi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EROB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ean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Release energy through cellular respiration or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ample: myobacterium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bligate aerob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bligate anaerobes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DO NOT need oxygen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BLIGAT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means requi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NAEROB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means  without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Release energy through cellular respiration or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ample: clostridium botul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bligate anaerob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cultative anaerobes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an survive with or without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acultative – means able to function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se bacteria can live just about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ample:  E. 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66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acultative anaerob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ff"/>
                  </a:gs>
                  <a:gs pos="50000">
                    <a:srgbClr val="ff66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Bacteria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gen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y play an important role in our ow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ent cy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the nitrogen cycle, which restores nitrate into the soil fo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acteria’s job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Beneficial_Bacteria.asf" descr=""/>
          <p:cNvPicPr/>
          <p:nvPr/>
        </p:nvPicPr>
        <p:blipFill>
          <a:blip r:embed="rId1"/>
          <a:stretch/>
        </p:blipFill>
        <p:spPr>
          <a:xfrm>
            <a:off x="990720" y="1420920"/>
            <a:ext cx="71625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“bad” Bacte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Harmful_Bacteria_and_the_Body_s_Defenses_Against_Them.asf" descr=""/>
          <p:cNvPicPr/>
          <p:nvPr/>
        </p:nvPicPr>
        <p:blipFill>
          <a:blip r:embed="rId1"/>
          <a:stretch/>
        </p:blipFill>
        <p:spPr>
          <a:xfrm>
            <a:off x="838080" y="1316160"/>
            <a:ext cx="739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benefit of having bacteria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“bad” bacteria and how it affects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of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lb.ac.be/sciences/biodic/ImBacterie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uckman.com/eng/micro101/bacteri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we find Prokaryot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acteria_are_Everywhere.asf" descr=""/>
          <p:cNvPicPr/>
          <p:nvPr/>
        </p:nvPicPr>
        <p:blipFill>
          <a:blip r:embed="rId1"/>
          <a:stretch/>
        </p:blipFill>
        <p:spPr>
          <a:xfrm>
            <a:off x="914400" y="1679400"/>
            <a:ext cx="68580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 are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es are simple organis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rokaryoticCell"/>
          <p:cNvPicPr/>
          <p:nvPr/>
        </p:nvPicPr>
        <p:blipFill>
          <a:blip r:embed="rId1"/>
          <a:srcRect l="0" t="33337" r="0" b="30556"/>
          <a:stretch/>
        </p:blipFill>
        <p:spPr>
          <a:xfrm>
            <a:off x="2133720" y="2666880"/>
            <a:ext cx="4343400" cy="3516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505320" y="3886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5800" y="64008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courtesy - http://www.cod.edu/people/faculty/fancher/ProkEu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current scientific thought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es were forme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bill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ears before eukaryotes (or abou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5 billion years a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istory.gif"/>
          <p:cNvPicPr/>
          <p:nvPr/>
        </p:nvPicPr>
        <p:blipFill>
          <a:blip r:embed="rId1"/>
          <a:stretch/>
        </p:blipFill>
        <p:spPr>
          <a:xfrm>
            <a:off x="228600" y="2666880"/>
            <a:ext cx="87012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2:42Z</dcterms:created>
  <dc:creator>SGANSK</dc:creator>
  <dc:description/>
  <dc:language>en-US</dc:language>
  <cp:lastModifiedBy>SADA GANSKE</cp:lastModifiedBy>
  <cp:lastPrinted>2011-11-15T14:17:35Z</cp:lastPrinted>
  <dcterms:modified xsi:type="dcterms:W3CDTF">2011-11-15T15:02:39Z</dcterms:modified>
  <cp:revision>10</cp:revision>
  <dc:subject/>
  <dc:title>Prokaryotes (bacteria) </dc:title>
</cp:coreProperties>
</file>